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577-8AD9-424C-9DAA-B6D00116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0C5-F08B-40B9-B846-4894AD12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79A-6708-4D5C-9610-0A76179D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392-4754-4B45-BF11-6BE6CEEB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1E4-FE6A-4257-89F9-CEDECDF3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475-983C-432D-8823-8FF26178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E9B-2BA9-4352-8B0E-0DFEDB1B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696-6225-4A60-9290-86C4088F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2B8-98A9-4856-8553-FEE63CE8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7F5-6599-4C6D-AA57-C851C08C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2E0-C687-4578-9ECA-0081F16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56A-4CE1-4266-A0B7-F17895D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36CF-CDA3-4E38-9957-FE3D81880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2998800"/>
            <a:ext cx="324000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MS UI Gothic"/>
              <a:ea typeface="MS UI Goth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71960" y="1989000"/>
            <a:ext cx="2876400" cy="209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571920"/>
            <a:ext cx="302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meg_parm.xxxfile  = '/home/meg/</a:t>
            </a:r>
            <a:r>
              <a:rPr b="1" lang="ja-JP" sz="1100" spc="-1" strike="noStrike">
                <a:solidFill>
                  <a:srgbClr val="ff0000"/>
                </a:solidFill>
                <a:latin typeface="MS UI Gothic"/>
                <a:ea typeface="MS UI Gothic"/>
              </a:rPr>
              <a:t>RH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781360"/>
            <a:ext cx="31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2.Replace string with value name(Edit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720" y="1773360"/>
            <a:ext cx="338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1.Choose parameters from history(project_mgr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1714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3.Create table(Edit table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628640"/>
            <a:ext cx="662472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422100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4724280"/>
            <a:ext cx="489600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</a:t>
            </a:r>
            <a:r>
              <a:rPr b="1" lang="en-US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4724280"/>
            <a:ext cx="3095640" cy="126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Parameters for 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brain_pa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.xxxfile = '/home/brain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meg_pa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.xxxfile  = '/home/meg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4560" y="328464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335772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'/home/brain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$ID$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103560"/>
            <a:ext cx="3386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brain_parm.xxxfile = '/home/brain/</a:t>
            </a:r>
            <a:r>
              <a:rPr b="1" lang="ja-JP" sz="1100" spc="-1" strike="noStrike">
                <a:solidFill>
                  <a:srgbClr val="ff0000"/>
                </a:solidFill>
                <a:latin typeface="MS UI Gothic"/>
                <a:ea typeface="MS UI Gothic"/>
              </a:rPr>
              <a:t>RH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6560" y="386064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'/home/meg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$ID$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2943360" cy="409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29264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4.Create parameter set(Create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5734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580536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5.Choose IDs(SBJ1-4) and Build batch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6237360"/>
            <a:ext cx="1297080" cy="36036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62802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S UI Gothic"/>
                <a:ea typeface="MS UI Gothic"/>
              </a:rPr>
              <a:t>BATCH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6308640"/>
            <a:ext cx="338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6.Execute : vb_run_batch(BATCH file, log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413000"/>
            <a:ext cx="1582560" cy="39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ameter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4479840"/>
            <a:ext cx="1728720" cy="246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eated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ameter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2:06:15Z</dcterms:created>
  <dc:creator>rhayashi</dc:creator>
  <dc:description/>
  <dc:language>en-US</dc:language>
  <cp:lastModifiedBy>rhayashi</cp:lastModifiedBy>
  <dcterms:modified xsi:type="dcterms:W3CDTF">2011-06-01T05:53:36Z</dcterms:modified>
  <cp:revision>10</cp:revision>
  <dc:subject/>
  <dc:title>スライド 1</dc:title>
</cp:coreProperties>
</file>