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A9C9-431E-4A74-AFC1-8C3A313DE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4687-A23C-4FD7-A2C5-68FE8719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6C75-08E4-4715-9A65-0CFD23343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D334-A885-4BE1-A64A-2135EA692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12A1-C123-4207-AA5C-98D76097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590D-77F0-4B98-A0DA-89DCDA39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D35E-DB9A-4FD0-979C-6A36ACAF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E77A-798F-48E0-94DE-45E278C8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A024-60EB-4310-934B-D0BAE5D8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76E0-7E0D-41B8-948F-A761DDB3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406A-D9E7-472E-9D83-91FAB5D7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48B3-9CCF-4941-9199-D6AD8075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ABE2-B67F-4F15-A153-7B57CE8C8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11280" y="2998800"/>
            <a:ext cx="3240000" cy="107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MS UI Gothic"/>
              <a:ea typeface="MS UI Gothic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071960" y="1989000"/>
            <a:ext cx="2876400" cy="2095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3571920"/>
            <a:ext cx="3024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meg_parm.xxxfile  = '/home/meg/</a:t>
            </a:r>
            <a:r>
              <a:rPr b="1" lang="ja-JP" sz="1100" spc="-1" strike="noStrike">
                <a:solidFill>
                  <a:srgbClr val="ff0000"/>
                </a:solidFill>
                <a:latin typeface="MS UI Gothic"/>
                <a:ea typeface="MS UI Gothic"/>
              </a:rPr>
              <a:t>RH</a:t>
            </a: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/somefile'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2781360"/>
            <a:ext cx="316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2.Replace string with value name(Edit butt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50920" y="1989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2720" y="1773360"/>
            <a:ext cx="3382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1.Choose parameters from history(project_mgr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95640" y="1714680"/>
            <a:ext cx="25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3.Create table(Edit table butt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628640"/>
            <a:ext cx="6624720" cy="25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08360" y="422100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3640" y="4724280"/>
            <a:ext cx="4896000" cy="93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- </a:t>
            </a:r>
            <a:r>
              <a:rPr b="1" lang="en-US" sz="1100" spc="-1" strike="noStrike">
                <a:solidFill>
                  <a:srgbClr val="009999"/>
                </a:solidFill>
                <a:latin typeface="MS UI Gothic"/>
                <a:ea typeface="MS UI Gothic"/>
              </a:rPr>
              <a:t>SBJ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- SBJ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- SBJ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- SBJ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64000" y="4724280"/>
            <a:ext cx="3095640" cy="126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Parameters for </a:t>
            </a:r>
            <a:r>
              <a:rPr b="1" lang="ja-JP" sz="1100" spc="-1" strike="noStrike">
                <a:solidFill>
                  <a:srgbClr val="009999"/>
                </a:solidFill>
                <a:latin typeface="MS UI Gothic"/>
                <a:ea typeface="MS UI Gothic"/>
              </a:rPr>
              <a:t>SBJ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  </a:t>
            </a: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brain_par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             </a:t>
            </a: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.xxxfile = '/home/brain/</a:t>
            </a:r>
            <a:r>
              <a:rPr b="1" lang="ja-JP" sz="1100" spc="-1" strike="noStrike">
                <a:solidFill>
                  <a:srgbClr val="009999"/>
                </a:solidFill>
                <a:latin typeface="MS UI Gothic"/>
                <a:ea typeface="MS UI Gothic"/>
              </a:rPr>
              <a:t>SBJ1</a:t>
            </a: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/somefile'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  </a:t>
            </a: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meg_par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             </a:t>
            </a: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.xxxfile  = '/home/meg/</a:t>
            </a:r>
            <a:r>
              <a:rPr b="1" lang="ja-JP" sz="1100" spc="-1" strike="noStrike">
                <a:solidFill>
                  <a:srgbClr val="009999"/>
                </a:solidFill>
                <a:latin typeface="MS UI Gothic"/>
                <a:ea typeface="MS UI Gothic"/>
              </a:rPr>
              <a:t>SBJ1</a:t>
            </a: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/somefile'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4560" y="3284640"/>
            <a:ext cx="18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8000" y="3357720"/>
            <a:ext cx="2087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'/home/brain/</a:t>
            </a:r>
            <a:r>
              <a:rPr b="1" lang="ja-JP" sz="1100" spc="-1" strike="noStrike">
                <a:solidFill>
                  <a:srgbClr val="009999"/>
                </a:solidFill>
                <a:latin typeface="MS UI Gothic"/>
                <a:ea typeface="MS UI Gothic"/>
              </a:rPr>
              <a:t>$ID$</a:t>
            </a: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/somefile'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3103560"/>
            <a:ext cx="3386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brain_parm.xxxfile = '/home/brain/</a:t>
            </a:r>
            <a:r>
              <a:rPr b="1" lang="ja-JP" sz="1100" spc="-1" strike="noStrike">
                <a:solidFill>
                  <a:srgbClr val="ff0000"/>
                </a:solidFill>
                <a:latin typeface="MS UI Gothic"/>
                <a:ea typeface="MS UI Gothic"/>
              </a:rPr>
              <a:t>RH</a:t>
            </a: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/somefile'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06560" y="3860640"/>
            <a:ext cx="2087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'/home/meg/</a:t>
            </a:r>
            <a:r>
              <a:rPr b="1" lang="ja-JP" sz="1100" spc="-1" strike="noStrike">
                <a:solidFill>
                  <a:srgbClr val="009999"/>
                </a:solidFill>
                <a:latin typeface="MS UI Gothic"/>
                <a:ea typeface="MS UI Gothic"/>
              </a:rPr>
              <a:t>$ID$</a:t>
            </a: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/somefile'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378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55640" y="2205000"/>
            <a:ext cx="2943360" cy="409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050920" y="2637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292640"/>
            <a:ext cx="287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4.Create parameter set(Create butt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08360" y="573408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11640" y="5805360"/>
            <a:ext cx="38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5.Choose IDs(SBJ1-4) and Build batch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6237360"/>
            <a:ext cx="1297080" cy="360360"/>
          </a:xfrm>
          <a:prstGeom prst="rect">
            <a:avLst/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64000" y="628020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S UI Gothic"/>
                <a:ea typeface="MS UI Gothic"/>
              </a:rPr>
              <a:t>BATCH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6308640"/>
            <a:ext cx="338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6.Execute : vb_run_batch(BATCH file, logfi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413000"/>
            <a:ext cx="1582560" cy="398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arameter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4479840"/>
            <a:ext cx="1728720" cy="246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reated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arameter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1T02:06:15Z</dcterms:created>
  <dc:creator>rhayashi</dc:creator>
  <dc:description/>
  <dc:language>en-US</dc:language>
  <cp:lastModifiedBy>rhayashi</cp:lastModifiedBy>
  <dcterms:modified xsi:type="dcterms:W3CDTF">2011-06-01T05:53:36Z</dcterms:modified>
  <cp:revision>10</cp:revision>
  <dc:subject/>
  <dc:title>スライド 1</dc:title>
</cp:coreProperties>
</file>