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1CB-C70E-464E-8649-F6332658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7E7-5229-4B47-8965-3A320E7E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C94-ACF3-49D9-B2AF-3A8D865E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492-D75A-4177-8EED-D99B31D7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92D-6EB3-4B97-85C5-BA5F5A2A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335-FD4E-458E-B973-50654BE7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95F-52F5-4715-B3F6-A11B5033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97D-ADDB-4301-95F8-D7068DD6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29D-D524-4E4D-BA68-4198862D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62E-5B00-4EFD-8E89-665A2DC7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226-5BC5-4517-AC8F-DB853D04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DB2-B20F-4249-BDB0-FDE9A9ED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94CF-9F1E-4062-9AE8-D0DC5099A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2998800"/>
            <a:ext cx="324000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MS UI Gothic"/>
              <a:ea typeface="MS UI Goth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71960" y="1989000"/>
            <a:ext cx="2876400" cy="209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571920"/>
            <a:ext cx="302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meg_parm.xxxfile  = '/home/meg/</a:t>
            </a:r>
            <a:r>
              <a:rPr b="1" lang="ja-JP" sz="1100" spc="-1" strike="noStrike">
                <a:solidFill>
                  <a:srgbClr val="ff0000"/>
                </a:solidFill>
                <a:latin typeface="MS UI Gothic"/>
                <a:ea typeface="MS UI Gothic"/>
              </a:rPr>
              <a:t>RH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781360"/>
            <a:ext cx="31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2.Replace string with value name(Edit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720" y="1773360"/>
            <a:ext cx="338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1.Choose parameters from history(project_mgr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95640" y="171468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3.Create table(Edit table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628640"/>
            <a:ext cx="6624720" cy="25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422100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4724280"/>
            <a:ext cx="489600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</a:t>
            </a:r>
            <a:r>
              <a:rPr b="1" lang="en-US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SBJ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SBJ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SBJ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4724280"/>
            <a:ext cx="3095640" cy="126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Parameters for 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brain_pa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       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.xxxfile = '/home/brain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meg_pa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       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.xxxfile  = '/home/meg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4560" y="328464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3357720"/>
            <a:ext cx="208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'/home/brain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$ID$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3103560"/>
            <a:ext cx="3386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brain_parm.xxxfile = '/home/brain/</a:t>
            </a:r>
            <a:r>
              <a:rPr b="1" lang="ja-JP" sz="1100" spc="-1" strike="noStrike">
                <a:solidFill>
                  <a:srgbClr val="ff0000"/>
                </a:solidFill>
                <a:latin typeface="MS UI Gothic"/>
                <a:ea typeface="MS UI Gothic"/>
              </a:rPr>
              <a:t>RH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6560" y="3860640"/>
            <a:ext cx="208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'/home/meg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$ID$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2943360" cy="409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092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29264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4.Create parameter set(Create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5734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580536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5.Choose IDs(SBJ1-4) and Build batch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6237360"/>
            <a:ext cx="1297080" cy="360360"/>
          </a:xfrm>
          <a:prstGeom prst="rect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628020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S UI Gothic"/>
                <a:ea typeface="MS UI Gothic"/>
              </a:rPr>
              <a:t>BATCH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6308640"/>
            <a:ext cx="338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6.Execute : vb_run_batch(BATCH file, log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413000"/>
            <a:ext cx="1582560" cy="398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rameter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4479840"/>
            <a:ext cx="1728720" cy="246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eated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rameter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2:06:15Z</dcterms:created>
  <dc:creator>rhayashi</dc:creator>
  <dc:description/>
  <dc:language>en-US</dc:language>
  <cp:lastModifiedBy>rhayashi</cp:lastModifiedBy>
  <dcterms:modified xsi:type="dcterms:W3CDTF">2011-06-01T05:53:36Z</dcterms:modified>
  <cp:revision>10</cp:revision>
  <dc:subject/>
  <dc:title>スライド 1</dc:title>
</cp:coreProperties>
</file>