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47E-4912-400D-9C45-BCDFA3E7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8BC-7FCE-4CEB-A5B9-C6F12CB7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287-F040-4AA2-8DA5-55AEA66C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F2D9-D523-4760-8D0D-F20C00FA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7ABC-D247-42F3-AFE2-FF93B8A0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C18-AEA1-4F79-AD2B-33D7EF40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F44-1208-44E9-A9DD-2F145AC5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65F-6515-4721-B33C-A8D93280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D92B-25A9-402D-A9EC-DA611AE1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5B95-E892-452F-B95C-53525454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6DCB-2B67-4E5B-817D-D9607705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ABB-8625-4F69-B233-B119F0D4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B739-7B0F-48B5-8A3D-7FC661AC5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2998800"/>
            <a:ext cx="324000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MS UI Gothic"/>
              <a:ea typeface="MS UI Gothic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71960" y="1989000"/>
            <a:ext cx="2876400" cy="2095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571920"/>
            <a:ext cx="302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meg_parm.xxxfile  = '/home/meg/</a:t>
            </a:r>
            <a:r>
              <a:rPr b="1" lang="ja-JP" sz="1100" spc="-1" strike="noStrike">
                <a:solidFill>
                  <a:srgbClr val="ff0000"/>
                </a:solidFill>
                <a:latin typeface="MS UI Gothic"/>
                <a:ea typeface="MS UI Gothic"/>
              </a:rPr>
              <a:t>RH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2781360"/>
            <a:ext cx="316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2.Replace string with value name(Edit but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720" y="1773360"/>
            <a:ext cx="338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1.Choose parameters from history(project_mgr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95640" y="171468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3.Create table(Edit table but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628640"/>
            <a:ext cx="6624720" cy="25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8360" y="422100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4724280"/>
            <a:ext cx="489600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- </a:t>
            </a:r>
            <a:r>
              <a:rPr b="1" lang="en-US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SBJ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- SBJ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- SBJ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- SBJ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4724280"/>
            <a:ext cx="3095640" cy="126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Parameters for 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SBJ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brain_pa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          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.xxxfile = '/home/brain/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SBJ1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meg_pa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          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.xxxfile  = '/home/meg/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SBJ1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4560" y="328464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8000" y="3357720"/>
            <a:ext cx="208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'/home/brain/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$ID$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3103560"/>
            <a:ext cx="3386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brain_parm.xxxfile = '/home/brain/</a:t>
            </a:r>
            <a:r>
              <a:rPr b="1" lang="ja-JP" sz="1100" spc="-1" strike="noStrike">
                <a:solidFill>
                  <a:srgbClr val="ff0000"/>
                </a:solidFill>
                <a:latin typeface="MS UI Gothic"/>
                <a:ea typeface="MS UI Gothic"/>
              </a:rPr>
              <a:t>RH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6560" y="3860640"/>
            <a:ext cx="208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'/home/meg/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$ID$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2943360" cy="409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5092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29264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4.Create parameter set(Create but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5734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1640" y="5805360"/>
            <a:ext cx="38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5.Choose IDs(SBJ1-4) and Build batch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6237360"/>
            <a:ext cx="1297080" cy="360360"/>
          </a:xfrm>
          <a:prstGeom prst="rect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628020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S UI Gothic"/>
                <a:ea typeface="MS UI Gothic"/>
              </a:rPr>
              <a:t>BATCH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6308640"/>
            <a:ext cx="338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6.Execute : vb_run_batch(BATCH file, log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413000"/>
            <a:ext cx="1582560" cy="398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rameter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4479840"/>
            <a:ext cx="1728720" cy="246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reated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rameter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02:06:15Z</dcterms:created>
  <dc:creator>rhayashi</dc:creator>
  <dc:description/>
  <dc:language>en-US</dc:language>
  <cp:lastModifiedBy>rhayashi</cp:lastModifiedBy>
  <dcterms:modified xsi:type="dcterms:W3CDTF">2011-06-01T05:53:36Z</dcterms:modified>
  <cp:revision>10</cp:revision>
  <dc:subject/>
  <dc:title>スライド 1</dc:title>
</cp:coreProperties>
</file>