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0610-26F1-490D-AA7E-602B4604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95A-419F-45D6-9D19-3A5C69CC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10F3-2BFF-49E8-B14E-026FC940C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BDF7-9715-4702-AE8C-1FD95A58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F6F-8155-4CA1-9535-592E19933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3FD4-066F-40D1-882E-C8FFC95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A99E-A566-4FB3-88FA-61A031F4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809D-9FB4-462B-BA62-15DBCBB5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AE8-8641-4C5B-8033-4B34575E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F10-6DFD-47ED-8788-8AFF1586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CB66-D659-481C-B0A5-CCB6C48E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4CD-9950-44F2-9CD3-709B7C20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FFBE-1DD6-4C6E-9D47-2463D03BE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2998800"/>
            <a:ext cx="3240000" cy="107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MS UI Gothic"/>
              <a:ea typeface="MS UI Gothic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071960" y="1989000"/>
            <a:ext cx="2876400" cy="209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5640" y="3571920"/>
            <a:ext cx="3024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.xxxfile  = '/home/meg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81360"/>
            <a:ext cx="316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2.Replace string with value name(Edit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05092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2720" y="1773360"/>
            <a:ext cx="338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1.Choose parameters from history(project_mgr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95640" y="1714680"/>
            <a:ext cx="259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3.Create table(Edit tabl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1628640"/>
            <a:ext cx="662472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08360" y="4221000"/>
            <a:ext cx="50328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3640" y="4724280"/>
            <a:ext cx="489600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</a:t>
            </a:r>
            <a:r>
              <a:rPr b="1" lang="en-US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- SBJ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64000" y="4724280"/>
            <a:ext cx="3095640" cy="126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Parameters for 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= 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meg_pa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             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.xxxfile  = 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SBJ1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14560" y="3284640"/>
            <a:ext cx="1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8000" y="335772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brain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3103560"/>
            <a:ext cx="33861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brain_parm.xxxfile = '/home/brain/</a:t>
            </a:r>
            <a:r>
              <a:rPr b="1" lang="ja-JP" sz="1100" spc="-1" strike="noStrike">
                <a:solidFill>
                  <a:srgbClr val="ff0000"/>
                </a:solidFill>
                <a:latin typeface="MS UI Gothic"/>
                <a:ea typeface="MS UI Gothic"/>
              </a:rPr>
              <a:t>RH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06560" y="3860640"/>
            <a:ext cx="2087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'/home/meg/</a:t>
            </a:r>
            <a:r>
              <a:rPr b="1" lang="ja-JP" sz="1100" spc="-1" strike="noStrike">
                <a:solidFill>
                  <a:srgbClr val="009999"/>
                </a:solidFill>
                <a:latin typeface="MS UI Gothic"/>
                <a:ea typeface="MS UI Gothic"/>
              </a:rPr>
              <a:t>$ID$</a:t>
            </a:r>
            <a:r>
              <a:rPr b="1" lang="ja-JP" sz="1100" spc="-1" strike="noStrike">
                <a:solidFill>
                  <a:srgbClr val="000000"/>
                </a:solidFill>
                <a:latin typeface="MS UI Gothic"/>
                <a:ea typeface="MS UI Gothic"/>
              </a:rPr>
              <a:t>/somefile'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2943360" cy="4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05092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292640"/>
            <a:ext cx="287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4.Create parameter set(Create butt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08360" y="573408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11640" y="5805360"/>
            <a:ext cx="388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5.Choose IDs(SBJ1-4) and Build batch 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8000" y="6237360"/>
            <a:ext cx="1297080" cy="360360"/>
          </a:xfrm>
          <a:prstGeom prst="rect">
            <a:avLst/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6280200"/>
            <a:ext cx="12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MS UI Gothic"/>
                <a:ea typeface="MS UI Gothic"/>
              </a:rPr>
              <a:t>BATCH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6308640"/>
            <a:ext cx="338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S UI Gothic"/>
                <a:ea typeface="MS UI Gothic"/>
              </a:rPr>
              <a:t>6.Execute : vb_run_batch(BATCH file, logf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413000"/>
            <a:ext cx="1582560" cy="398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63640" y="4479840"/>
            <a:ext cx="1728720" cy="2462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reated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arameter 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1T02:06:15Z</dcterms:created>
  <dc:creator>rhayashi</dc:creator>
  <dc:description/>
  <dc:language>en-US</dc:language>
  <cp:lastModifiedBy>rhayashi</cp:lastModifiedBy>
  <dcterms:modified xsi:type="dcterms:W3CDTF">2011-06-01T05:53:36Z</dcterms:modified>
  <cp:revision>10</cp:revision>
  <dc:subject/>
  <dc:title>スライド 1</dc:title>
</cp:coreProperties>
</file>